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BA1A0-BE7E-4987-9F74-255D3A095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66740-AA4F-410F-A064-F6161D65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5AA94-3F37-4043-AA89-63656334E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CF894-8D5D-4187-A283-A00183507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D3DC1-6559-4986-862C-87F3028EB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7C2AC-CD63-44C1-B556-5C1ACC457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D524B-F85A-457C-8B01-A4ADE3057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581F2-2731-4A5D-A13E-0B3677C2C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C9179-3B3D-4691-988A-390E7ECB4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B74BD-53CD-48D8-88E9-9A4D55C6D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DA2AF-05E3-415C-B9DD-439EFE8C1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737EE-D573-404F-9F28-E5FDDC056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BA00C-CC39-4D1B-960D-7D6F640D6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AE6B9-552A-4624-AF01-17A70472B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B49B6-9317-4070-92A7-BCF7A7D23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F7724-E62B-4711-BFE8-BF1D7AC12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BED5F-4AE7-4FF9-B8DC-2CA847920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951AA0-4300-481D-B7A4-F651B391B9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98A9F-5BA2-460D-B998-F3DC22475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646AC-E0C1-4DAA-80DD-D92149E02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BF1AA-ED0F-4C74-85D4-2A1EAB6C4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E64C4-55C5-457C-AA5F-BDB4D9349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8306-8C56-4FF9-830D-55B4340F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9210A-2430-4F9F-ABED-96F2CEF06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E88A9-7F30-463C-991D-ED251C84C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A096C-A264-4DB4-92E1-BECA6F852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1EA77-AE7E-428D-83EF-F0AEF5A52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A190D1-9DD8-4125-A0A5-9D7C01A84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65BDBD-72F1-424D-AEF9-A84769301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FA3F22-50E9-4D80-A8CE-4BE2C0A21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0746DD-533B-44C5-8754-90A2617107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462AB8-96E1-4C57-8B9F-8F191047C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A905F-0175-4A2D-ACF9-D4885ECBD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DC80-9C2B-492A-AA18-4C467D34A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EC35E-9AB0-40A3-BB60-0EDCB0DD5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4D251-7E4D-4AA4-AAE0-9F7A8BE0C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DAE9F-AEDC-4FEF-AEEC-5FE228FE6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5348B-3021-4C80-9C16-7AC50DCDAA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97322-D602-4253-A24B-2BB59A5A8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AB80B-6C35-4E61-A681-7EEFDB38A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745F0-7A51-408D-8955-EB024C763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CF8622-7D2C-479E-A8EC-CC965787E8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D62179-3A0B-4224-9EC8-51B590D667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1EB562-6330-416A-9A9A-9E27A7D50D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9F813-DA51-4692-8516-5A67F238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5AEB6B-2DCC-4437-B86E-58C0EA39B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7AB8C-219D-48D0-BCDF-9DF127751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A5D60-C217-434D-881C-C74224226B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58D36A-DE5C-4674-AC08-383D8820D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32DA3B-A408-411D-B0B3-882CFE0BF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1970E-3C51-4AE4-94B3-9F66122A3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BA0BC-4215-44D6-806D-A5AA70824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4E214-599F-4CF4-BEDA-5F2B0D963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36021-A9D1-400C-88C5-818EDA41A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FAA08D-D603-48C4-9D6C-CC924BD530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6CB8-5EA3-4B7F-97B4-F66DBFE9B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07673A-FCE0-4111-AAD5-E84023DF6D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7AB5-69F3-4CF8-BC6D-F181C529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BCAE-D679-4960-BAB0-DAFA41553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0FE2-36F1-47D0-80C5-B6AACCFFA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4B6BE-500D-42F2-9AB2-7A1397A7F69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71626-374D-4FC8-A857-790E5F99A8BD}"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18B33-81DF-419A-A509-46623D04664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8494C-BD9B-4416-A005-8DA1C3897D30}" type="datetime">
              <a:rPr b="0" lang="en-US" sz="1200" spc="-1" strike="noStrike">
                <a:solidFill>
                  <a:srgbClr val="ffffff"/>
                </a:solidFill>
                <a:latin typeface="Times New Roman"/>
              </a:rPr>
              <a:t>07/31/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973C5-4EA1-4966-847A-B99F8A02D0B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32D53-99C8-45C2-B216-8A748D049E9F}"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5A1BD-4852-4DBF-ACF6-EC678F43F36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Franklin Gothic Medium"/>
              </a:rPr>
              <a:t>Module 3</a:t>
            </a:r>
            <a:endParaRPr b="0" lang="en-US" sz="5000" spc="-1" strike="noStrike">
              <a:solidFill>
                <a:srgbClr val="000000"/>
              </a:solidFill>
              <a:latin typeface="Franklin Gothic Medium"/>
            </a:endParaRPr>
          </a:p>
        </p:txBody>
      </p:sp>
      <p:sp>
        <p:nvSpPr>
          <p:cNvPr id="216"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Book"/>
              </a:rPr>
              <a:t>Exit Tickets</a:t>
            </a:r>
            <a:endParaRPr b="1" lang="en-US" sz="2100" spc="-1" strike="noStrike">
              <a:solidFill>
                <a:srgbClr val="000000"/>
              </a:solidFill>
              <a:latin typeface="Franklin Gothic Book"/>
            </a:endParaRPr>
          </a:p>
        </p:txBody>
      </p:sp>
      <p:sp>
        <p:nvSpPr>
          <p:cNvPr id="217"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Eureka Math is licensed by Great Minds under an Attribution-NonCommercial-ShareAlike 4.0 International license.</a:t>
            </a:r>
            <a:endParaRPr b="0" lang="en-US" sz="18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9</a:t>
            </a:r>
            <a:endParaRPr b="0" lang="en-US" sz="2800" spc="-1" strike="noStrike">
              <a:solidFill>
                <a:srgbClr val="000000"/>
              </a:solidFill>
              <a:latin typeface="Franklin Gothic Medium"/>
            </a:endParaRPr>
          </a:p>
        </p:txBody>
      </p:sp>
      <p:sp>
        <p:nvSpPr>
          <p:cNvPr id="249" name=""/>
          <p:cNvSpPr txBox="1"/>
          <p:nvPr/>
        </p:nvSpPr>
        <p:spPr>
          <a:xfrm>
            <a:off x="685800" y="1128600"/>
            <a:ext cx="7772400" cy="42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Interpret the number line diagram shown below, and write a statement about the temperature for Tuesday compared to Monday at 11:00 p.m.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 If the temperature at 11:00 p.m. on Wednesday is warmer than Tuesday’s temperature but still below zero, what is a possible value for the temperature at 11:00 p.m. Wednesday? </a:t>
            </a:r>
            <a:endParaRPr b="1" lang="en-US" sz="2400" spc="-1" strike="noStrike">
              <a:solidFill>
                <a:srgbClr val="000000"/>
              </a:solidFill>
              <a:latin typeface="Franklin Gothic Book"/>
            </a:endParaRPr>
          </a:p>
        </p:txBody>
      </p:sp>
      <p:pic>
        <p:nvPicPr>
          <p:cNvPr id="250" name="Picture 3" descr="Screen Shot 2016-06-21 at 3.15.07 PM.png"/>
          <p:cNvPicPr/>
          <p:nvPr/>
        </p:nvPicPr>
        <p:blipFill>
          <a:blip r:embed="rId1"/>
          <a:stretch/>
        </p:blipFill>
        <p:spPr>
          <a:xfrm>
            <a:off x="2192400" y="4010040"/>
            <a:ext cx="3963960" cy="27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0</a:t>
            </a:r>
            <a:endParaRPr b="0" lang="en-US" sz="2800" spc="-1" strike="noStrike">
              <a:solidFill>
                <a:srgbClr val="000000"/>
              </a:solidFill>
              <a:latin typeface="Franklin Gothic Medium"/>
            </a:endParaRPr>
          </a:p>
        </p:txBody>
      </p:sp>
      <p:sp>
        <p:nvSpPr>
          <p:cNvPr id="252" name=""/>
          <p:cNvSpPr txBox="1"/>
          <p:nvPr/>
        </p:nvSpPr>
        <p:spPr>
          <a:xfrm>
            <a:off x="369720" y="914040"/>
            <a:ext cx="8088480" cy="341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Kendra collected data for her science project. She surveyed people asking them how many hours they sleep during a typical night. The chart below shows how each person’s response compares to 8 hours (which is the answer she expected most people to say).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lot and label each of the numbers in the right-most column of the table above on the number line below.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b) List the numbers from least to greatest.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 Using your answer from part (b) and inequality symbols, write one statement that shows the relationship among all of the numbers.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53" name="Picture 2" descr="Screen Shot 2016-06-22 at 8.50.59 AM.png"/>
          <p:cNvPicPr/>
          <p:nvPr/>
        </p:nvPicPr>
        <p:blipFill>
          <a:blip r:embed="rId1"/>
          <a:stretch/>
        </p:blipFill>
        <p:spPr>
          <a:xfrm>
            <a:off x="1103400" y="4017960"/>
            <a:ext cx="6686640" cy="2549520"/>
          </a:xfrm>
          <a:prstGeom prst="rect">
            <a:avLst/>
          </a:prstGeom>
          <a:ln w="0">
            <a:noFill/>
          </a:ln>
        </p:spPr>
      </p:pic>
      <p:pic>
        <p:nvPicPr>
          <p:cNvPr id="254" name="Picture 3" descr="Screen Shot 2016-06-22 at 8.51.27 AM.png"/>
          <p:cNvPicPr/>
          <p:nvPr/>
        </p:nvPicPr>
        <p:blipFill>
          <a:blip r:embed="rId2"/>
          <a:stretch/>
        </p:blipFill>
        <p:spPr>
          <a:xfrm>
            <a:off x="631800" y="2247840"/>
            <a:ext cx="7712280" cy="60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1</a:t>
            </a:r>
            <a:endParaRPr b="0" lang="en-US" sz="2800" spc="-1" strike="noStrike">
              <a:solidFill>
                <a:srgbClr val="000000"/>
              </a:solidFill>
              <a:latin typeface="Franklin Gothic Medium"/>
            </a:endParaRPr>
          </a:p>
        </p:txBody>
      </p:sp>
      <p:sp>
        <p:nvSpPr>
          <p:cNvPr id="256" name=""/>
          <p:cNvSpPr txBox="1"/>
          <p:nvPr/>
        </p:nvSpPr>
        <p:spPr>
          <a:xfrm>
            <a:off x="458280" y="882720"/>
            <a:ext cx="7215480" cy="5975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Jessie and his family drove up to a picnic area on a mountain. In the morning, they followed a trail that led to the mountain summit, which was 2,000 feet above the picnic area. They then returned to the picnic area for lunch. After lunch, they hiked on a trail that led to the mountain overlook, which was 3,500 feet below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a.  Locate and label the elevation of the mountain summit and mountain overlook on a vertical number line. The picnic area represents zero. Write a rational number to represent each location.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Picnic area: </a:t>
            </a:r>
            <a:r>
              <a:rPr b="1" lang="en-US" sz="1700" spc="-1" strike="noStrike">
                <a:solidFill>
                  <a:srgbClr val="000000"/>
                </a:solidFill>
                <a:latin typeface="Franklin Gothic Book"/>
              </a:rPr>
              <a:t>	</a:t>
            </a:r>
            <a:r>
              <a:rPr b="1" lang="en-US" sz="1700" spc="-1" strike="noStrike">
                <a:solidFill>
                  <a:srgbClr val="000000"/>
                </a:solidFill>
                <a:latin typeface="Franklin Gothic Book"/>
              </a:rPr>
              <a:t>	</a:t>
            </a:r>
            <a:r>
              <a:rPr b="1" lang="en-US" sz="1700" spc="-1" strike="noStrike">
                <a:solidFill>
                  <a:srgbClr val="000000"/>
                </a:solidFill>
                <a:latin typeface="Franklin Gothic Book"/>
              </a:rPr>
              <a:t>___</a:t>
            </a:r>
            <a:r>
              <a:rPr b="1" lang="en-US" sz="1700" spc="-1" strike="noStrike" u="sng">
                <a:solidFill>
                  <a:srgbClr val="000000"/>
                </a:solidFill>
                <a:uFillTx/>
                <a:latin typeface="Franklin Gothic Book"/>
              </a:rPr>
              <a:t>__0_</a:t>
            </a:r>
            <a:r>
              <a:rPr b="1" lang="en-US" sz="1700" spc="-1" strike="noStrike">
                <a:solidFill>
                  <a:srgbClr val="000000"/>
                </a:solidFill>
                <a:latin typeface="Franklin Gothic Book"/>
              </a:rPr>
              <a:t>____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summit: </a:t>
            </a:r>
            <a:r>
              <a:rPr b="1" lang="en-US" sz="1700" spc="-1" strike="noStrike">
                <a:solidFill>
                  <a:srgbClr val="000000"/>
                </a:solidFill>
                <a:latin typeface="Franklin Gothic Book"/>
              </a:rPr>
              <a:t>	</a:t>
            </a:r>
            <a:r>
              <a:rPr b="1" lang="en-US" sz="1700" spc="-1" strike="noStrike">
                <a:solidFill>
                  <a:srgbClr val="000000"/>
                </a:solidFill>
                <a:latin typeface="Franklin Gothic Book"/>
              </a:rPr>
              <a:t>                 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overlook:   </a:t>
            </a:r>
            <a:r>
              <a:rPr b="1" lang="en-US" sz="1700" spc="-1" strike="noStrike">
                <a:solidFill>
                  <a:srgbClr val="000000"/>
                </a:solidFill>
                <a:latin typeface="Franklin Gothic Book"/>
              </a:rPr>
              <a:t>	</a:t>
            </a:r>
            <a:r>
              <a:rPr b="1" lang="en-US" sz="1700" spc="-1" strike="noStrike">
                <a:solidFill>
                  <a:srgbClr val="000000"/>
                </a:solidFill>
                <a:latin typeface="Franklin Gothic Book"/>
              </a:rPr>
              <a:t>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b.  Use absolute value to represent the distance on the number line of each location from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summit: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overlook: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c.  What is the distance between the elevations of the summit and overlook? Use absolute value and your number line from part (a) to explain your answer.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p:txBody>
      </p:sp>
      <p:pic>
        <p:nvPicPr>
          <p:cNvPr id="257" name="Picture 2" descr="Screen Shot 2016-06-22 at 9.10.28 AM.png"/>
          <p:cNvPicPr/>
          <p:nvPr/>
        </p:nvPicPr>
        <p:blipFill>
          <a:blip r:embed="rId1"/>
          <a:stretch/>
        </p:blipFill>
        <p:spPr>
          <a:xfrm>
            <a:off x="7972560" y="1217520"/>
            <a:ext cx="53820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2</a:t>
            </a:r>
            <a:endParaRPr b="0" lang="en-US" sz="2800" spc="-1" strike="noStrike">
              <a:solidFill>
                <a:srgbClr val="000000"/>
              </a:solidFill>
              <a:latin typeface="Franklin Gothic Medium"/>
            </a:endParaRPr>
          </a:p>
        </p:txBody>
      </p:sp>
      <p:sp>
        <p:nvSpPr>
          <p:cNvPr id="259" name=""/>
          <p:cNvSpPr txBox="1"/>
          <p:nvPr/>
        </p:nvSpPr>
        <p:spPr>
          <a:xfrm>
            <a:off x="822240" y="1099800"/>
            <a:ext cx="7521840" cy="5267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Bethany writes a set of rational numbers in increasing order. Her teacher asks her to write the absolute values of these numbers in increasing order. When her teacher checks Bethany’s work, she is pleased to see that Bethany has not changed the order of her numbers. Why is this?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Mason was ordering the following rational numbers in math class: −3.3, −15,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Order the number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List the order of their absolute value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Explain why the orderings in parts (a) and (b) are differen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0" name="Picture 2" descr="Screen Shot 2016-06-22 at 11.56.11 AM.png"/>
          <p:cNvPicPr/>
          <p:nvPr/>
        </p:nvPicPr>
        <p:blipFill>
          <a:blip r:embed="rId1"/>
          <a:stretch/>
        </p:blipFill>
        <p:spPr>
          <a:xfrm>
            <a:off x="3389400" y="3016080"/>
            <a:ext cx="67284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3</a:t>
            </a:r>
            <a:endParaRPr b="0" lang="en-US" sz="2800" spc="-1" strike="noStrike">
              <a:solidFill>
                <a:srgbClr val="000000"/>
              </a:solidFill>
              <a:latin typeface="Franklin Gothic Medium"/>
            </a:endParaRPr>
          </a:p>
        </p:txBody>
      </p:sp>
      <p:sp>
        <p:nvSpPr>
          <p:cNvPr id="262" name=""/>
          <p:cNvSpPr txBox="1"/>
          <p:nvPr/>
        </p:nvSpPr>
        <p:spPr>
          <a:xfrm>
            <a:off x="822240" y="1099800"/>
            <a:ext cx="7521840" cy="5349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Loni and Daryl call each other from different sides of Watertown. Their locations are shown on the number line below using miles. Use absolute value to explain who is a farther distance (in miles) from Watertown. How much closer is one than the other?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Claude recently read that no one has ever scuba dived more than 330 meters below sea level. Describe what this means in terms of elevation using sea level as a reference poin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3" name="Picture 2" descr="Screen Shot 2016-06-22 at 11.59.16 AM.png"/>
          <p:cNvPicPr/>
          <p:nvPr/>
        </p:nvPicPr>
        <p:blipFill>
          <a:blip r:embed="rId1"/>
          <a:stretch/>
        </p:blipFill>
        <p:spPr>
          <a:xfrm>
            <a:off x="463680" y="2927520"/>
            <a:ext cx="8242200" cy="97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4</a:t>
            </a:r>
            <a:endParaRPr b="0" lang="en-US" sz="2800" spc="-1" strike="noStrike">
              <a:solidFill>
                <a:srgbClr val="000000"/>
              </a:solidFill>
              <a:latin typeface="Franklin Gothic Medium"/>
            </a:endParaRPr>
          </a:p>
        </p:txBody>
      </p:sp>
      <p:sp>
        <p:nvSpPr>
          <p:cNvPr id="265" name=""/>
          <p:cNvSpPr txBox="1"/>
          <p:nvPr/>
        </p:nvSpPr>
        <p:spPr>
          <a:xfrm>
            <a:off x="401760" y="789120"/>
            <a:ext cx="8470800" cy="58291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map below, the fire department and the hospital have one matching coordinate. Determine the proper order of the ordered pairs in the map, and write the correct ordered pairs for the locations of the fire department and hospital. Indicate which of their coordinates are the same.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Locate and label the locations of each description below: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local bank has the same first coordinate as the fire department, but its second coordinate is half of the fire department’s second coordinate. What ordered pair describes the location of the bank? Locate and label the bank on the map using point  B.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Village Police Department has the same second coordinate as the bank, but its first coordinate is −2. What ordered pair describes the location of the Village Police Department? Locate and label the Village Police Department on the map using point P. </a:t>
            </a:r>
            <a:endParaRPr b="1" lang="en-US" sz="1600" spc="-1" strike="noStrike">
              <a:solidFill>
                <a:srgbClr val="000000"/>
              </a:solidFill>
              <a:latin typeface="Franklin Gothic Book"/>
            </a:endParaRPr>
          </a:p>
        </p:txBody>
      </p:sp>
      <p:pic>
        <p:nvPicPr>
          <p:cNvPr id="266" name="Picture 2" descr="Screen Shot 2016-06-22 at 12.01.38 PM.png"/>
          <p:cNvPicPr/>
          <p:nvPr/>
        </p:nvPicPr>
        <p:blipFill>
          <a:blip r:embed="rId1"/>
          <a:stretch/>
        </p:blipFill>
        <p:spPr>
          <a:xfrm>
            <a:off x="3260880" y="1539720"/>
            <a:ext cx="3512880" cy="30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5</a:t>
            </a:r>
            <a:endParaRPr b="0" lang="en-US" sz="2800" spc="-1" strike="noStrike">
              <a:solidFill>
                <a:srgbClr val="000000"/>
              </a:solidFill>
              <a:latin typeface="Franklin Gothic Medium"/>
            </a:endParaRPr>
          </a:p>
        </p:txBody>
      </p:sp>
      <p:sp>
        <p:nvSpPr>
          <p:cNvPr id="268" name=""/>
          <p:cNvSpPr txBox="1"/>
          <p:nvPr/>
        </p:nvSpPr>
        <p:spPr>
          <a:xfrm>
            <a:off x="475920" y="914400"/>
            <a:ext cx="4506840" cy="5608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1.  Label the secon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secon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second quadrant?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2.  Label the thir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thir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third quadrant?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n ordered pair has coordinates that have the same sign.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4.  Another ordered pair has coordinates that are opposites.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pic>
        <p:nvPicPr>
          <p:cNvPr id="269" name="Picture 2" descr="Screen Shot 2016-06-22 at 12.52.08 PM.png"/>
          <p:cNvPicPr/>
          <p:nvPr/>
        </p:nvPicPr>
        <p:blipFill>
          <a:blip r:embed="rId1"/>
          <a:stretch/>
        </p:blipFill>
        <p:spPr>
          <a:xfrm>
            <a:off x="5181480" y="1808280"/>
            <a:ext cx="3962520" cy="401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6</a:t>
            </a:r>
            <a:endParaRPr b="0" lang="en-US" sz="2800" spc="-1" strike="noStrike">
              <a:solidFill>
                <a:srgbClr val="000000"/>
              </a:solidFill>
              <a:latin typeface="Franklin Gothic Medium"/>
            </a:endParaRPr>
          </a:p>
        </p:txBody>
      </p:sp>
      <p:sp>
        <p:nvSpPr>
          <p:cNvPr id="271" name=""/>
          <p:cNvSpPr txBox="1"/>
          <p:nvPr/>
        </p:nvSpPr>
        <p:spPr>
          <a:xfrm>
            <a:off x="822240" y="1100160"/>
            <a:ext cx="7521840" cy="530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1. How are the ordered pairs (4, 9) and (4, −9) similar, and how are they different? Are the two points related by a reflection over an axis in the coordinate plane? If so, indicate which axis is the line of symmetry between the points. If they are not related by a reflection over an axis in the coordinate plane, explain how you know.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Given the point (−5, 2), write the coordinates of a point that is related by a reflection over the x- or y-axis. Specify which axis is the line of symmetry.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7</a:t>
            </a:r>
            <a:endParaRPr b="0" lang="en-US" sz="2800" spc="-1" strike="noStrike">
              <a:solidFill>
                <a:srgbClr val="000000"/>
              </a:solidFill>
              <a:latin typeface="Franklin Gothic Medium"/>
            </a:endParaRPr>
          </a:p>
        </p:txBody>
      </p:sp>
      <p:sp>
        <p:nvSpPr>
          <p:cNvPr id="27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an appropriate scale for the set of points given below. Draw and label the coordinate plane, and then locate and label the set of points.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0, 0.2), (−25, 0.8), (0, −0.4), (20, 1), (−5, −0.8)}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74" name="Picture 2" descr="Screen Shot 2016-06-22 at 12.56.42 PM.png"/>
          <p:cNvPicPr/>
          <p:nvPr/>
        </p:nvPicPr>
        <p:blipFill>
          <a:blip r:embed="rId1"/>
          <a:stretch/>
        </p:blipFill>
        <p:spPr>
          <a:xfrm>
            <a:off x="2265480" y="2643120"/>
            <a:ext cx="4333680" cy="407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8</a:t>
            </a:r>
            <a:endParaRPr b="0" lang="en-US" sz="2800" spc="-1" strike="noStrike">
              <a:solidFill>
                <a:srgbClr val="000000"/>
              </a:solidFill>
              <a:latin typeface="Franklin Gothic Medium"/>
            </a:endParaRPr>
          </a:p>
        </p:txBody>
      </p:sp>
      <p:sp>
        <p:nvSpPr>
          <p:cNvPr id="276" name=""/>
          <p:cNvSpPr txBox="1"/>
          <p:nvPr/>
        </p:nvSpPr>
        <p:spPr>
          <a:xfrm>
            <a:off x="822240" y="1099800"/>
            <a:ext cx="7521840" cy="5403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whether each given pair of end points lies on the same horizontal or vertical line. If so, find the length of the line segment that joins the pair of points. If not, explain how you know the points are not on the same horizontal or vertical line.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0, −2) and (0, 9)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1, 4) and (2, 1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3, −8) and (3, −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4, −4) and (5, −4)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a:t>
            </a:r>
            <a:endParaRPr b="0" lang="en-US" sz="2800" spc="-1" strike="noStrike">
              <a:solidFill>
                <a:srgbClr val="000000"/>
              </a:solidFill>
              <a:latin typeface="Franklin Gothic Medium"/>
            </a:endParaRPr>
          </a:p>
        </p:txBody>
      </p:sp>
      <p:sp>
        <p:nvSpPr>
          <p:cNvPr id="219" name=""/>
          <p:cNvSpPr txBox="1"/>
          <p:nvPr/>
        </p:nvSpPr>
        <p:spPr>
          <a:xfrm>
            <a:off x="685800" y="1145880"/>
            <a:ext cx="7772400" cy="476388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Franklin Gothic Book"/>
              </a:rPr>
              <a:t>1. </a:t>
            </a:r>
            <a:r>
              <a:rPr b="1" lang="en-US" sz="2400" spc="-1" strike="noStrike">
                <a:solidFill>
                  <a:srgbClr val="000000"/>
                </a:solidFill>
                <a:latin typeface="Franklin Gothic Book"/>
              </a:rPr>
              <a:t>If zero lies between 𝑎 and 𝑑, give one set of possible values for 𝑎, 𝑏, 𝑐, and 𝑑. </a:t>
            </a: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Below is a list of numbers in order from least to greatest. Use what you know about the number line to complete the list of numbers by filling in the blanks with the missing integers. </a:t>
            </a:r>
            <a:r>
              <a:rPr b="1" lang="en-US" sz="2800" spc="-1" strike="noStrike">
                <a:solidFill>
                  <a:srgbClr val="000000"/>
                </a:solidFill>
                <a:latin typeface="Franklin Gothic Book"/>
              </a:rPr>
              <a:t> </a:t>
            </a:r>
            <a:endParaRPr b="1" lang="en-US" sz="28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p:txBody>
      </p:sp>
      <p:pic>
        <p:nvPicPr>
          <p:cNvPr id="220" name="Picture 3" descr="Screen Shot 2016-06-21 at 2.50.02 PM.png"/>
          <p:cNvPicPr/>
          <p:nvPr/>
        </p:nvPicPr>
        <p:blipFill>
          <a:blip r:embed="rId1"/>
          <a:stretch/>
        </p:blipFill>
        <p:spPr>
          <a:xfrm>
            <a:off x="504720" y="2062080"/>
            <a:ext cx="8128080" cy="927360"/>
          </a:xfrm>
          <a:prstGeom prst="rect">
            <a:avLst/>
          </a:prstGeom>
          <a:ln w="0">
            <a:noFill/>
          </a:ln>
        </p:spPr>
      </p:pic>
      <p:pic>
        <p:nvPicPr>
          <p:cNvPr id="221" name="Picture 5" descr="Screen Shot 2016-06-21 at 2.51.56 PM.png"/>
          <p:cNvPicPr/>
          <p:nvPr/>
        </p:nvPicPr>
        <p:blipFill>
          <a:blip r:embed="rId2"/>
          <a:stretch/>
        </p:blipFill>
        <p:spPr>
          <a:xfrm>
            <a:off x="685800" y="5310360"/>
            <a:ext cx="8077320" cy="927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9</a:t>
            </a:r>
            <a:endParaRPr b="0" lang="en-US" sz="2800" spc="-1" strike="noStrike">
              <a:solidFill>
                <a:srgbClr val="000000"/>
              </a:solidFill>
              <a:latin typeface="Franklin Gothic Medium"/>
            </a:endParaRPr>
          </a:p>
        </p:txBody>
      </p:sp>
      <p:sp>
        <p:nvSpPr>
          <p:cNvPr id="278" name=""/>
          <p:cNvSpPr txBox="1"/>
          <p:nvPr/>
        </p:nvSpPr>
        <p:spPr>
          <a:xfrm>
            <a:off x="822240" y="1100160"/>
            <a:ext cx="7521840" cy="2998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The coordinates of one end point of a line segment are (−2, −7). The line segment is 12 units long. Give three possible coordinates of the line segment’s other end point.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Graph a rectangle with an area of 12 units</a:t>
            </a:r>
            <a:r>
              <a:rPr b="1" lang="en-US" sz="2000" spc="-1" strike="noStrike" baseline="30000">
                <a:solidFill>
                  <a:srgbClr val="000000"/>
                </a:solidFill>
                <a:latin typeface="Franklin Gothic Book"/>
              </a:rPr>
              <a:t>2  </a:t>
            </a:r>
            <a:r>
              <a:rPr b="1" lang="en-US" sz="2000" spc="-1" strike="noStrike">
                <a:solidFill>
                  <a:srgbClr val="000000"/>
                </a:solidFill>
                <a:latin typeface="Franklin Gothic Book"/>
              </a:rPr>
              <a:t>such that its vertices lie in at least two of the four quadrants in the coordinate plane. State the lengths of each of the sides, and use absolute value to show how you determined the lengths of the sides.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79" name="Picture 2" descr="Screen Shot 2016-06-22 at 12.59.52 PM.png"/>
          <p:cNvPicPr/>
          <p:nvPr/>
        </p:nvPicPr>
        <p:blipFill>
          <a:blip r:embed="rId1"/>
          <a:stretch/>
        </p:blipFill>
        <p:spPr>
          <a:xfrm>
            <a:off x="2693880" y="3533760"/>
            <a:ext cx="3597480" cy="32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2</a:t>
            </a:r>
            <a:endParaRPr b="0" lang="en-US" sz="2800" spc="-1" strike="noStrike">
              <a:solidFill>
                <a:srgbClr val="000000"/>
              </a:solidFill>
              <a:latin typeface="Franklin Gothic Medium"/>
            </a:endParaRPr>
          </a:p>
        </p:txBody>
      </p:sp>
      <p:sp>
        <p:nvSpPr>
          <p:cNvPr id="223" name=""/>
          <p:cNvSpPr txBox="1"/>
          <p:nvPr/>
        </p:nvSpPr>
        <p:spPr>
          <a:xfrm>
            <a:off x="685440" y="1217520"/>
            <a:ext cx="6016680" cy="4780080"/>
          </a:xfrm>
          <a:prstGeom prst="rect">
            <a:avLst/>
          </a:prstGeom>
          <a:noFill/>
          <a:ln w="0">
            <a:noFill/>
          </a:ln>
        </p:spPr>
        <p:txBody>
          <a:bodyPr anchor="t">
            <a:normAutofit fontScale="94000"/>
          </a:bodyPr>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rite a story problem that includes both integers −8 and 12.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hat does zero represent in your story problem?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Choose an appropriate scale to graph both integers on the vertical number line. Label the scal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Graph both points on the vertical number lin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24" name="Picture 3" descr="Screen Shot 2016-06-21 at 2.55.37 PM.png"/>
          <p:cNvPicPr/>
          <p:nvPr/>
        </p:nvPicPr>
        <p:blipFill>
          <a:blip r:embed="rId1"/>
          <a:stretch/>
        </p:blipFill>
        <p:spPr>
          <a:xfrm>
            <a:off x="7391520" y="365040"/>
            <a:ext cx="556920" cy="592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3</a:t>
            </a:r>
            <a:endParaRPr b="0" lang="en-US" sz="2800" spc="-1" strike="noStrike">
              <a:solidFill>
                <a:srgbClr val="000000"/>
              </a:solidFill>
              <a:latin typeface="Franklin Gothic Medium"/>
            </a:endParaRPr>
          </a:p>
        </p:txBody>
      </p:sp>
      <p:sp>
        <p:nvSpPr>
          <p:cNvPr id="226" name=""/>
          <p:cNvSpPr txBox="1"/>
          <p:nvPr/>
        </p:nvSpPr>
        <p:spPr>
          <a:xfrm>
            <a:off x="685440" y="1599840"/>
            <a:ext cx="6458040" cy="5257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1. Write a story problem using sea level that includes both integers −110 and 120.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 What does zero represent in your story problem?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 Choose an appropriate scale to graph both integers on the vertical number line.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4. Graph and label both points on the vertical number line.  </a:t>
            </a:r>
            <a:endParaRPr b="1" lang="en-US" sz="2600" spc="-1" strike="noStrike">
              <a:solidFill>
                <a:srgbClr val="000000"/>
              </a:solidFill>
              <a:latin typeface="Franklin Gothic Book"/>
            </a:endParaRPr>
          </a:p>
        </p:txBody>
      </p:sp>
      <p:pic>
        <p:nvPicPr>
          <p:cNvPr id="227" name="Picture 3" descr="Screen Shot 2016-06-21 at 2.55.37 PM.png"/>
          <p:cNvPicPr/>
          <p:nvPr/>
        </p:nvPicPr>
        <p:blipFill>
          <a:blip r:embed="rId1"/>
          <a:stretch/>
        </p:blipFill>
        <p:spPr>
          <a:xfrm>
            <a:off x="7588080" y="274680"/>
            <a:ext cx="559080" cy="593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4</a:t>
            </a:r>
            <a:endParaRPr b="0" lang="en-US" sz="2800" spc="-1" strike="noStrike">
              <a:solidFill>
                <a:srgbClr val="000000"/>
              </a:solidFill>
              <a:latin typeface="Franklin Gothic Medium"/>
            </a:endParaRPr>
          </a:p>
        </p:txBody>
      </p:sp>
      <p:sp>
        <p:nvSpPr>
          <p:cNvPr id="229" name=""/>
          <p:cNvSpPr txBox="1"/>
          <p:nvPr/>
        </p:nvSpPr>
        <p:spPr>
          <a:xfrm>
            <a:off x="458640" y="914040"/>
            <a:ext cx="7637760" cy="5807160"/>
          </a:xfrm>
          <a:prstGeom prst="rect">
            <a:avLst/>
          </a:prstGeom>
          <a:noFill/>
          <a:ln w="0">
            <a:noFill/>
          </a:ln>
        </p:spPr>
        <p:txBody>
          <a:bodyPr anchor="t">
            <a:normAutofit fontScale="91000"/>
          </a:bodyPr>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In a recent survey, a magazine reported that the preferred room temperature in the summer is 68°F. A wall thermostat, like the ones shown below, tells a room’s temperature in degrees Fahrenhei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	</a:t>
            </a:r>
            <a:r>
              <a:rPr b="1" lang="en-US" sz="1800" spc="-1" strike="noStrike">
                <a:solidFill>
                  <a:srgbClr val="000000"/>
                </a:solidFill>
                <a:latin typeface="Franklin Gothic Book"/>
              </a:rPr>
              <a: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warm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cool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Sarah notices that her room’s temperature is 4°F above the recommended temperature, and the downstairs bedroom’s temperature is 4°F below the recommended temperature. She graphs 72 and 64 on a vertical number line and determines they are opposites. Is Sarah correct? Explain.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After determining the relationship between the temperatures, Sarah now decides to represent 72°F as 4 and 64°F as −4 and graphs them on a vertical number line. Graph 4 and −4 on the vertical number line on the right. Explain what zero represents in this situation.  </a:t>
            </a:r>
            <a:endParaRPr b="1" lang="en-US" sz="1800" spc="-1" strike="noStrike">
              <a:solidFill>
                <a:srgbClr val="000000"/>
              </a:solidFill>
              <a:latin typeface="Franklin Gothic Book"/>
            </a:endParaRPr>
          </a:p>
        </p:txBody>
      </p:sp>
      <p:pic>
        <p:nvPicPr>
          <p:cNvPr id="230" name="Picture 3" descr="Screen Shot 2016-06-21 at 2.55.37 PM.png"/>
          <p:cNvPicPr/>
          <p:nvPr/>
        </p:nvPicPr>
        <p:blipFill>
          <a:blip r:embed="rId1"/>
          <a:stretch/>
        </p:blipFill>
        <p:spPr>
          <a:xfrm>
            <a:off x="8240760" y="452520"/>
            <a:ext cx="558720" cy="5930640"/>
          </a:xfrm>
          <a:prstGeom prst="rect">
            <a:avLst/>
          </a:prstGeom>
          <a:ln w="0">
            <a:noFill/>
          </a:ln>
        </p:spPr>
      </p:pic>
      <p:pic>
        <p:nvPicPr>
          <p:cNvPr id="231" name="Picture 4" descr="Screen Shot 2016-06-21 at 3.01.48 PM.png"/>
          <p:cNvPicPr/>
          <p:nvPr/>
        </p:nvPicPr>
        <p:blipFill>
          <a:blip r:embed="rId2"/>
          <a:stretch/>
        </p:blipFill>
        <p:spPr>
          <a:xfrm>
            <a:off x="4919760" y="1771560"/>
            <a:ext cx="1058760" cy="1279440"/>
          </a:xfrm>
          <a:prstGeom prst="rect">
            <a:avLst/>
          </a:prstGeom>
          <a:ln w="0">
            <a:noFill/>
          </a:ln>
        </p:spPr>
      </p:pic>
      <p:pic>
        <p:nvPicPr>
          <p:cNvPr id="232" name="Picture 5" descr="Screen Shot 2016-06-21 at 3.01.36 PM.png"/>
          <p:cNvPicPr/>
          <p:nvPr/>
        </p:nvPicPr>
        <p:blipFill>
          <a:blip r:embed="rId3"/>
          <a:stretch/>
        </p:blipFill>
        <p:spPr>
          <a:xfrm>
            <a:off x="1547640" y="1771560"/>
            <a:ext cx="1257480" cy="12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5</a:t>
            </a:r>
            <a:endParaRPr b="0" lang="en-US" sz="2800" spc="-1" strike="noStrike">
              <a:solidFill>
                <a:srgbClr val="000000"/>
              </a:solidFill>
              <a:latin typeface="Franklin Gothic Medium"/>
            </a:endParaRPr>
          </a:p>
        </p:txBody>
      </p:sp>
      <p:sp>
        <p:nvSpPr>
          <p:cNvPr id="234" name=""/>
          <p:cNvSpPr txBox="1"/>
          <p:nvPr/>
        </p:nvSpPr>
        <p:spPr>
          <a:xfrm>
            <a:off x="685800" y="1182600"/>
            <a:ext cx="7975440" cy="509760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Jane completes several example problems that ask her to the find the opposite of the opposite of a number, and for each example, the result is a positive number. Jane concludes that when she takes the opposite of the opposite of any number, the result will always be positive. Is Jane correct? Why or why not?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To support your answer from the previous question, create an example, written as an equation. Illustrate your example on the number line below.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35" name="Picture 3" descr="Screen Shot 2016-06-21 at 3.03.54 PM.png"/>
          <p:cNvPicPr/>
          <p:nvPr/>
        </p:nvPicPr>
        <p:blipFill>
          <a:blip r:embed="rId1"/>
          <a:stretch/>
        </p:blipFill>
        <p:spPr>
          <a:xfrm>
            <a:off x="279360" y="5560920"/>
            <a:ext cx="8381880" cy="7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6</a:t>
            </a:r>
            <a:endParaRPr b="0" lang="en-US" sz="2800" spc="-1" strike="noStrike">
              <a:solidFill>
                <a:srgbClr val="000000"/>
              </a:solidFill>
              <a:latin typeface="Franklin Gothic Medium"/>
            </a:endParaRPr>
          </a:p>
        </p:txBody>
      </p:sp>
      <p:sp>
        <p:nvSpPr>
          <p:cNvPr id="237" name=""/>
          <p:cNvSpPr txBox="1"/>
          <p:nvPr/>
        </p:nvSpPr>
        <p:spPr>
          <a:xfrm>
            <a:off x="685800" y="952200"/>
            <a:ext cx="7904160" cy="5383080"/>
          </a:xfrm>
          <a:prstGeom prst="rect">
            <a:avLst/>
          </a:prstGeom>
          <a:noFill/>
          <a:ln w="0">
            <a:noFill/>
          </a:ln>
        </p:spPr>
        <p:txBody>
          <a:bodyPr anchor="t">
            <a:normAutofit/>
          </a:bodyPr>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Use the number line diagram below to answer the following questions.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length of each segment on the number line?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number does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Locate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on the number line, and label i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In the diagram above, zero represents the location of Martin Luther King Middle School.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s the library, which is located to the east of the middle school. In words, create a real-world situation that could represen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nd describe its location in relation to 0 and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pic>
        <p:nvPicPr>
          <p:cNvPr id="238" name="Picture 3" descr="Screen Shot 2016-06-21 at 3.06.03 PM.png"/>
          <p:cNvPicPr/>
          <p:nvPr/>
        </p:nvPicPr>
        <p:blipFill>
          <a:blip r:embed="rId1"/>
          <a:stretch/>
        </p:blipFill>
        <p:spPr>
          <a:xfrm>
            <a:off x="809640" y="1546200"/>
            <a:ext cx="7488360" cy="93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Screen Shot 2016-06-21 at 3.08.25 PM.png"/>
          <p:cNvPicPr/>
          <p:nvPr/>
        </p:nvPicPr>
        <p:blipFill>
          <a:blip r:embed="rId1"/>
          <a:stretch/>
        </p:blipFill>
        <p:spPr>
          <a:xfrm>
            <a:off x="4589640" y="4500720"/>
            <a:ext cx="558720" cy="672840"/>
          </a:xfrm>
          <a:prstGeom prst="rect">
            <a:avLst/>
          </a:prstGeom>
          <a:ln w="0">
            <a:noFill/>
          </a:ln>
        </p:spPr>
      </p:pic>
      <p:pic>
        <p:nvPicPr>
          <p:cNvPr id="240" name="Picture 5" descr="Screen Shot 2016-06-21 at 3.08.16 PM.png"/>
          <p:cNvPicPr/>
          <p:nvPr/>
        </p:nvPicPr>
        <p:blipFill>
          <a:blip r:embed="rId2"/>
          <a:stretch/>
        </p:blipFill>
        <p:spPr>
          <a:xfrm>
            <a:off x="6037200" y="3827520"/>
            <a:ext cx="541440" cy="673200"/>
          </a:xfrm>
          <a:prstGeom prst="rect">
            <a:avLst/>
          </a:prstGeom>
          <a:ln w="0">
            <a:noFill/>
          </a:ln>
        </p:spPr>
      </p:pic>
      <p:pic>
        <p:nvPicPr>
          <p:cNvPr id="241" name="Picture 4" descr="Screen Shot 2016-06-21 at 3.08.25 PM.png"/>
          <p:cNvPicPr/>
          <p:nvPr/>
        </p:nvPicPr>
        <p:blipFill>
          <a:blip r:embed="rId3"/>
          <a:stretch/>
        </p:blipFill>
        <p:spPr>
          <a:xfrm>
            <a:off x="5148360" y="3289320"/>
            <a:ext cx="558720" cy="673200"/>
          </a:xfrm>
          <a:prstGeom prst="rect">
            <a:avLst/>
          </a:prstGeom>
          <a:ln w="0">
            <a:noFill/>
          </a:ln>
        </p:spPr>
      </p:pic>
      <p:sp>
        <p:nvSpPr>
          <p:cNvPr id="2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7</a:t>
            </a:r>
            <a:endParaRPr b="0" lang="en-US" sz="2800" spc="-1" strike="noStrike">
              <a:solidFill>
                <a:srgbClr val="000000"/>
              </a:solidFill>
              <a:latin typeface="Franklin Gothic Medium"/>
            </a:endParaRPr>
          </a:p>
        </p:txBody>
      </p:sp>
      <p:sp>
        <p:nvSpPr>
          <p:cNvPr id="243" name=""/>
          <p:cNvSpPr txBox="1"/>
          <p:nvPr/>
        </p:nvSpPr>
        <p:spPr>
          <a:xfrm>
            <a:off x="685800" y="1130040"/>
            <a:ext cx="7772400" cy="4903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 math class, Christina and Brett are debating the relationship between two rational numbers. Read their claims below, and then write an explanation of who is correct. Use a number line model to support your answer.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hristina’s Claim</a:t>
            </a:r>
            <a:r>
              <a:rPr b="1" lang="en-US" sz="2400" spc="-1" strike="noStrike">
                <a:solidFill>
                  <a:srgbClr val="000000"/>
                </a:solidFill>
                <a:latin typeface="Gill Sans MT"/>
              </a:rPr>
              <a:t>: “I know that 3 is greater than         . So, −3 must be greater than         .”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Brett’s Claim</a:t>
            </a:r>
            <a:r>
              <a:rPr b="1" lang="en-US" sz="2400" spc="-1" strike="noStrike">
                <a:solidFill>
                  <a:srgbClr val="000000"/>
                </a:solidFill>
                <a:latin typeface="Gill Sans MT"/>
              </a:rPr>
              <a:t>: “Yes, 3 is greater than         , but when you look at their opposites, their order will be opposite. So, that means        is greater than −3.”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44" name="Picture 3" descr="Screen Shot 2016-06-21 at 3.08.16 PM.png"/>
          <p:cNvPicPr/>
          <p:nvPr/>
        </p:nvPicPr>
        <p:blipFill>
          <a:blip r:embed="rId4"/>
          <a:stretch/>
        </p:blipFill>
        <p:spPr>
          <a:xfrm>
            <a:off x="7621560" y="2935440"/>
            <a:ext cx="504720" cy="81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8</a:t>
            </a:r>
            <a:endParaRPr b="0" lang="en-US" sz="2800" spc="-1" strike="noStrike">
              <a:solidFill>
                <a:srgbClr val="000000"/>
              </a:solidFill>
              <a:latin typeface="Franklin Gothic Medium"/>
            </a:endParaRPr>
          </a:p>
        </p:txBody>
      </p:sp>
      <p:sp>
        <p:nvSpPr>
          <p:cNvPr id="246" name=""/>
          <p:cNvSpPr txBox="1"/>
          <p:nvPr/>
        </p:nvSpPr>
        <p:spPr>
          <a:xfrm>
            <a:off x="822240" y="1956960"/>
            <a:ext cx="7521840" cy="2722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rder the following set of rational numbers from least to greatest, and explain how you determined the order. </a:t>
            </a:r>
            <a:endParaRPr b="1" lang="en-US" sz="2800" spc="-1" strike="noStrike">
              <a:solidFill>
                <a:srgbClr val="000000"/>
              </a:solidFill>
              <a:latin typeface="Franklin Gothic Book"/>
            </a:endParaRPr>
          </a:p>
        </p:txBody>
      </p:sp>
      <p:pic>
        <p:nvPicPr>
          <p:cNvPr id="247" name="Picture 3" descr="Screen Shot 2016-06-21 at 3.13.36 PM.png"/>
          <p:cNvPicPr/>
          <p:nvPr/>
        </p:nvPicPr>
        <p:blipFill>
          <a:blip r:embed="rId1"/>
          <a:stretch/>
        </p:blipFill>
        <p:spPr>
          <a:xfrm>
            <a:off x="988920" y="3616200"/>
            <a:ext cx="73216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21:40:43Z</dcterms:created>
  <dc:creator>user</dc:creator>
  <dc:description/>
  <dc:language>en-US</dc:language>
  <cp:lastModifiedBy>m m</cp:lastModifiedBy>
  <cp:lastPrinted>2016-06-22T18:59:45Z</cp:lastPrinted>
  <dcterms:modified xsi:type="dcterms:W3CDTF">2016-06-22T22:46:25Z</dcterms:modified>
  <cp:revision>40</cp:revision>
  <dc:subject/>
  <dc:title>Module 3</dc:title>
</cp:coreProperties>
</file>